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CAF-4793-401D-8C81-577F36C4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8C4-C2B1-4256-B603-8DA5344F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3D1-CCFC-4267-AADF-59AB78F7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A97-C627-41D1-A63B-D8603BAC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023-9275-426E-8E3B-1EEBCB7A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B30-C3F1-4FD5-A03D-934B5EC2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E78-AA03-4D4E-8313-87E2D2F7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E7F-3F86-4211-A552-6D2B4812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D4A-7D45-47A4-A411-66559268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A34-D1C8-4B95-ABDE-2EF079C2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A2C-B138-40E4-8953-CA47854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F0B-40C8-4A51-8704-7ADFF2A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E97F-4A07-45D3-BE5F-F32953B32B1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َبَ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نه بنفس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4:51:38Z</dcterms:created>
  <dc:creator>-</dc:creator>
  <dc:description/>
  <dc:language>en-US</dc:language>
  <cp:lastModifiedBy>-</cp:lastModifiedBy>
  <dcterms:modified xsi:type="dcterms:W3CDTF">2003-01-14T15:12:57Z</dcterms:modified>
  <cp:revision>3</cp:revision>
  <dc:subject/>
  <dc:title>Slide 1</dc:title>
</cp:coreProperties>
</file>